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29.jpeg" ContentType="image/jpeg"/>
  <Override PartName="/ppt/media/image10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DFC-3684-499F-ABEF-4E365BDF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0C1-DB05-4887-BC31-C0D26F71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BB2-464A-4674-9AB7-91A570BA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1E2-C9B2-434D-812C-5A8EC623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C11-6C8D-44AD-8E53-AF9E100D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963-771A-49D7-AECC-A1EF8B96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ACF-8E9D-4F92-8EE3-4DEA5ED3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903-CCE0-4ED9-A266-BFC8E7DB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075-7044-4813-BC62-DD5B4302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A8B-A15B-4B7D-99FD-7C8C68BB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3A1-CAE9-4E95-B7BB-D7880E8B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151-E7C7-4CC6-B191-5EFEA1D9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24F1-C712-449A-9940-1ACE11216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t-ra.info/articles/podrostkovye-knigi-na-slozhnye-temy-kto-i-zachem-ikh-pishet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youtu.be/kEofPcVUJT0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s://i.mycdn.me/i?r=AyH4iRPQ2q0otWIFepML2LxRQpQ6kK7XI-Cc2DKxqdF7JA&amp;fn=h_768" TargetMode="External"/><Relationship Id="rId5" Type="http://schemas.openxmlformats.org/officeDocument/2006/relationships/image" Target="../media/image30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600" y="1571760"/>
            <a:ext cx="578628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ниг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ьи  Доцук «Поход к двум водопадам»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4429080"/>
            <a:ext cx="75722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Некрасова Светлана Ивановна, учитель русского языка и литературы МБОУ СОШ с. Паш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анасьевского муниципального округа Кир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85840" y="35712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лаборат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ая детско-юношеская литерату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фактор формирования национальной культурной идент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1928880" y="56437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АУ ДПО«Институт развития образования Кир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7429680" y="5357880"/>
            <a:ext cx="150012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Пользователь\Desktop\лаборатория\ПРЕЗ\поход с портретом.jpg"/>
          <p:cNvPicPr/>
          <p:nvPr/>
        </p:nvPicPr>
        <p:blipFill>
          <a:blip r:embed="rId2"/>
          <a:srcRect l="53797" t="4084" r="0" b="0"/>
          <a:stretch/>
        </p:blipFill>
        <p:spPr>
          <a:xfrm>
            <a:off x="412920" y="1285920"/>
            <a:ext cx="22302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ья Сергеевна Доцу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ась 8 марта 1990 г. в г. Алма-Ата в семье журн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т в Моск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а факультет международной журналистики МГИМ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корреспондента сотрудничает с сайтом «Папмамбук»,  «ГодЛитературы.р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7 книг для детей и подрост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нт Всероссийского конкурса «Книгуру», премии имени В.П. Крапивина, премии имени С.В. Михал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ется фотографией, музыкой, спор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object 1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3643200" cy="3589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Users\Пользователь\Desktop\лаборатория\ПРЕЗ\9.jpg"/>
          <p:cNvPicPr/>
          <p:nvPr/>
        </p:nvPicPr>
        <p:blipFill>
          <a:blip r:embed="rId2"/>
          <a:stretch/>
        </p:blipFill>
        <p:spPr>
          <a:xfrm>
            <a:off x="2786040" y="521496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ерю, что хорошие истор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ют жизнь ярч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object 5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714240"/>
            <a:ext cx="3786120" cy="42148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0" descr=""/>
          <p:cNvPicPr/>
          <p:nvPr/>
        </p:nvPicPr>
        <p:blipFill>
          <a:blip r:embed="rId3"/>
          <a:stretch/>
        </p:blipFill>
        <p:spPr>
          <a:xfrm>
            <a:off x="214200" y="1357200"/>
            <a:ext cx="1571760" cy="20401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12" descr=""/>
          <p:cNvPicPr/>
          <p:nvPr/>
        </p:nvPicPr>
        <p:blipFill>
          <a:blip r:embed="rId4"/>
          <a:stretch/>
        </p:blipFill>
        <p:spPr>
          <a:xfrm>
            <a:off x="3643200" y="1357200"/>
            <a:ext cx="1544760" cy="2000520"/>
          </a:xfrm>
          <a:prstGeom prst="rect">
            <a:avLst/>
          </a:prstGeom>
          <a:ln w="0">
            <a:noFill/>
          </a:ln>
        </p:spPr>
      </p:pic>
      <p:pic>
        <p:nvPicPr>
          <p:cNvPr id="86" name="object 21" descr=""/>
          <p:cNvPicPr/>
          <p:nvPr/>
        </p:nvPicPr>
        <p:blipFill>
          <a:blip r:embed="rId5"/>
          <a:stretch/>
        </p:blipFill>
        <p:spPr>
          <a:xfrm>
            <a:off x="3714840" y="3929040"/>
            <a:ext cx="1571400" cy="2214720"/>
          </a:xfrm>
          <a:prstGeom prst="rect">
            <a:avLst/>
          </a:prstGeom>
          <a:ln w="0">
            <a:noFill/>
          </a:ln>
        </p:spPr>
      </p:pic>
      <p:pic>
        <p:nvPicPr>
          <p:cNvPr id="87" name="object 24" descr=""/>
          <p:cNvPicPr/>
          <p:nvPr/>
        </p:nvPicPr>
        <p:blipFill>
          <a:blip r:embed="rId6"/>
          <a:stretch/>
        </p:blipFill>
        <p:spPr>
          <a:xfrm>
            <a:off x="214200" y="3500280"/>
            <a:ext cx="1500480" cy="1994040"/>
          </a:xfrm>
          <a:prstGeom prst="rect">
            <a:avLst/>
          </a:prstGeom>
          <a:ln w="0">
            <a:noFill/>
          </a:ln>
        </p:spPr>
      </p:pic>
      <p:pic>
        <p:nvPicPr>
          <p:cNvPr id="88" name="object 18" descr=""/>
          <p:cNvPicPr/>
          <p:nvPr/>
        </p:nvPicPr>
        <p:blipFill>
          <a:blip r:embed="rId7"/>
          <a:stretch/>
        </p:blipFill>
        <p:spPr>
          <a:xfrm>
            <a:off x="2000160" y="1428840"/>
            <a:ext cx="1428840" cy="1928880"/>
          </a:xfrm>
          <a:prstGeom prst="rect">
            <a:avLst/>
          </a:prstGeom>
          <a:ln w="0">
            <a:noFill/>
          </a:ln>
        </p:spPr>
      </p:pic>
      <p:pic>
        <p:nvPicPr>
          <p:cNvPr id="89" name="object 15" descr=""/>
          <p:cNvPicPr/>
          <p:nvPr/>
        </p:nvPicPr>
        <p:blipFill>
          <a:blip r:embed="rId8"/>
          <a:stretch/>
        </p:blipFill>
        <p:spPr>
          <a:xfrm>
            <a:off x="2000160" y="3500280"/>
            <a:ext cx="1571760" cy="2071800"/>
          </a:xfrm>
          <a:prstGeom prst="rect">
            <a:avLst/>
          </a:prstGeom>
          <a:ln w="0">
            <a:noFill/>
          </a:ln>
        </p:spPr>
      </p:pic>
      <p:pic>
        <p:nvPicPr>
          <p:cNvPr id="90" name="object 33" descr=""/>
          <p:cNvPicPr/>
          <p:nvPr/>
        </p:nvPicPr>
        <p:blipFill>
          <a:blip r:embed="rId9"/>
          <a:stretch/>
        </p:blipFill>
        <p:spPr>
          <a:xfrm>
            <a:off x="7143840" y="4500720"/>
            <a:ext cx="172224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Пользователь\Desktop\лаборатория\ПРЕЗ\9.jpg"/>
          <p:cNvPicPr/>
          <p:nvPr/>
        </p:nvPicPr>
        <p:blipFill>
          <a:blip r:embed="rId10"/>
          <a:stretch/>
        </p:blipFill>
        <p:spPr>
          <a:xfrm>
            <a:off x="5429160" y="500076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Дарьи Доцук к читател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 indent="35712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вам за то, что вы читаете и не слушаете тех, кто говорит, что книги – это прошлый век. На самом деле книга – очень современное изобретение, пусть и придумана давным-давно. Это и машина времени, и путешествие, и возможность прожить множество жизней, причем не слезая с дивана. Получается, тот, кто читает, отнюдь не старомоден, а наоборот, смотрит в будущее. И обязательно увидит все самое интересное, что есть на све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 indent="357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143000"/>
            <a:ext cx="4181400" cy="25574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8"/>
          <p:cNvSpPr/>
          <p:nvPr/>
        </p:nvSpPr>
        <p:spPr>
          <a:xfrm>
            <a:off x="285840" y="3714840"/>
            <a:ext cx="42148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358920" algn="just">
              <a:lnSpc>
                <a:spcPct val="114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– это повод для беседы, и для меня важно не просто писать о разных жизненных ситуациях, но вместе с читателями обсуждать их, анализировать, сравнивать,  размышлять вслух, разговаривать о том, что их волн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C:\Users\Пользователь\Desktop\лаборатория\ПРЕЗ\9.jpg"/>
          <p:cNvPicPr/>
          <p:nvPr/>
        </p:nvPicPr>
        <p:blipFill>
          <a:blip r:embed="rId3"/>
          <a:stretch/>
        </p:blipFill>
        <p:spPr>
          <a:xfrm>
            <a:off x="5786280" y="528624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ительный  диплом (201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57160"/>
            <a:ext cx="40402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856800"/>
            <a:ext cx="4041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714560" y="1071720"/>
            <a:ext cx="4041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 indent="358920" algn="just">
              <a:lnSpc>
                <a:spcPct val="114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 к двум водопадам», как и многие мои книги – история о границе между реальным и воображаем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600" indent="358920" algn="just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зрослеющем человеке, который умеет прятаться от проблем в мире фантазии. Теперь ему предстоит научиться выходить из укрытия и справляться с трудностями в реальном ми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600" indent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5715000" y="5143680"/>
            <a:ext cx="1476360" cy="110772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3" descr=""/>
          <p:cNvPicPr/>
          <p:nvPr/>
        </p:nvPicPr>
        <p:blipFill>
          <a:blip r:embed="rId2"/>
          <a:stretch/>
        </p:blipFill>
        <p:spPr>
          <a:xfrm>
            <a:off x="357120" y="857160"/>
            <a:ext cx="4071960" cy="52689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19" descr=""/>
          <p:cNvPicPr/>
          <p:nvPr/>
        </p:nvPicPr>
        <p:blipFill>
          <a:blip r:embed="rId3"/>
          <a:stretch/>
        </p:blipFill>
        <p:spPr>
          <a:xfrm>
            <a:off x="928800" y="928800"/>
            <a:ext cx="2755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4143240" y="428760"/>
            <a:ext cx="4786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ра Одинцова учится в восьмом классе, живет с бабушкой и дедушкой. И в ее жизни все непросто. Лучшая подруга стала дружить с более «популярной» девочкой, друг-одноклассник болеет астмой, испытывает болезненные и опасные для жизни приступы, ему совсем не до чувств. Другой одноклассник, скорее враг, каждый день ищет повод поддеть или унизить. И школьный класс Веры не самое благоприятное место в мире. Одноклассники, в общем-то, неплохие ребята, но их стиль общения - это сила. А Вера - творческий человек. Очень непросто осмелиться противоречить силе, у кого-то получается, а у кого-то нет. Помогут ли Вере ее увлечения изменить сложную ситуацию? Сможет ли она найти в себе силы и протянуть руку тому, кого еще вчера считала своим «мучителем»? Легко ли, вообще, найти в другом человеке что-то хорошее, что, безусловно, есть в каждом челове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Пользователь\Desktop\лаборатория\ПРЕЗ\поход 2.jpg"/>
          <p:cNvPicPr/>
          <p:nvPr/>
        </p:nvPicPr>
        <p:blipFill>
          <a:blip r:embed="rId1"/>
          <a:srcRect l="29642" t="0" r="36073" b="0"/>
          <a:stretch/>
        </p:blipFill>
        <p:spPr>
          <a:xfrm>
            <a:off x="285840" y="357120"/>
            <a:ext cx="2114640" cy="264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Пользователь\Desktop\лаборатория\ПРЕЗ\поход 2.jpg"/>
          <p:cNvPicPr/>
          <p:nvPr/>
        </p:nvPicPr>
        <p:blipFill>
          <a:blip r:embed="rId2"/>
          <a:srcRect l="68220" t="0" r="0" b="0"/>
          <a:stretch/>
        </p:blipFill>
        <p:spPr>
          <a:xfrm>
            <a:off x="2071800" y="785880"/>
            <a:ext cx="2049480" cy="257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Пользователь\Desktop\лаборатория\ПРЕЗ\9.jpg"/>
          <p:cNvPicPr/>
          <p:nvPr/>
        </p:nvPicPr>
        <p:blipFill>
          <a:blip r:embed="rId3"/>
          <a:stretch/>
        </p:blipFill>
        <p:spPr>
          <a:xfrm>
            <a:off x="2714760" y="535788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Пользователь\Desktop\4.jpg"/>
          <p:cNvPicPr/>
          <p:nvPr/>
        </p:nvPicPr>
        <p:blipFill>
          <a:blip r:embed="rId4"/>
          <a:srcRect l="47659" t="3125" r="0" b="2082"/>
          <a:stretch/>
        </p:blipFill>
        <p:spPr>
          <a:xfrm>
            <a:off x="571680" y="2857680"/>
            <a:ext cx="2089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object 2"/>
          <p:cNvGrpSpPr/>
          <p:nvPr/>
        </p:nvGrpSpPr>
        <p:grpSpPr>
          <a:xfrm>
            <a:off x="214200" y="500040"/>
            <a:ext cx="4643640" cy="5715000"/>
            <a:chOff x="214200" y="500040"/>
            <a:chExt cx="4643640" cy="5715000"/>
          </a:xfrm>
        </p:grpSpPr>
        <p:pic>
          <p:nvPicPr>
            <p:cNvPr id="110" name="object 3" descr=""/>
            <p:cNvPicPr/>
            <p:nvPr/>
          </p:nvPicPr>
          <p:blipFill>
            <a:blip r:embed="rId1"/>
            <a:stretch/>
          </p:blipFill>
          <p:spPr>
            <a:xfrm>
              <a:off x="1238760" y="1892520"/>
              <a:ext cx="2709360" cy="43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object 4" descr=""/>
            <p:cNvPicPr/>
            <p:nvPr/>
          </p:nvPicPr>
          <p:blipFill>
            <a:blip r:embed="rId2"/>
            <a:stretch/>
          </p:blipFill>
          <p:spPr>
            <a:xfrm>
              <a:off x="1311480" y="1991160"/>
              <a:ext cx="2564280" cy="41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object 7" descr=""/>
            <p:cNvPicPr/>
            <p:nvPr/>
          </p:nvPicPr>
          <p:blipFill>
            <a:blip r:embed="rId3"/>
            <a:stretch/>
          </p:blipFill>
          <p:spPr>
            <a:xfrm>
              <a:off x="3161160" y="500040"/>
              <a:ext cx="1696680" cy="321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object 8" descr=""/>
            <p:cNvPicPr/>
            <p:nvPr/>
          </p:nvPicPr>
          <p:blipFill>
            <a:blip r:embed="rId4"/>
            <a:stretch/>
          </p:blipFill>
          <p:spPr>
            <a:xfrm>
              <a:off x="214200" y="1049400"/>
              <a:ext cx="1446120" cy="30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12"/>
          <p:cNvSpPr/>
          <p:nvPr/>
        </p:nvSpPr>
        <p:spPr>
          <a:xfrm>
            <a:off x="4643280" y="612720"/>
            <a:ext cx="4214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героев-подростков, признанных лидеров, аутсайдеров и хулиганов, есть и очень разные взрослые: одним вообще нет дела до подростков, другие по-детски обидчивы, но будут и такие, которые готовы помогать, даже бороться за каждую лично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люди «никогда не исчезают насовсем», ведь у них душа Великана, мечтавшего сделать всех чуть добрее. Именно помощь такого взрослого, его наставничество и участие нередко становятся для подростка надёжным камертоном, настраивающим душу на гуманизм и сопережива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C:\Users\Пользователь\Desktop\лаборатория\ПРЕЗ\9.jpg"/>
          <p:cNvPicPr/>
          <p:nvPr/>
        </p:nvPicPr>
        <p:blipFill>
          <a:blip r:embed="rId5"/>
          <a:stretch/>
        </p:blipFill>
        <p:spPr>
          <a:xfrm>
            <a:off x="7215120" y="535788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 художника Николай Клименко делают эту книгу еще глубже и ярче. А образы, найденные художником, раскрывают характеры, придавая большую объемность и реализм событиям, описанным в повести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1" descr="C:\Users\home\Desktop\картинка.jpg"/>
          <p:cNvPicPr/>
          <p:nvPr/>
        </p:nvPicPr>
        <p:blipFill>
          <a:blip r:embed="rId1"/>
          <a:stretch/>
        </p:blipFill>
        <p:spPr>
          <a:xfrm>
            <a:off x="285840" y="1357200"/>
            <a:ext cx="2286000" cy="347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Пользователь\Desktop\3.jpg"/>
          <p:cNvPicPr/>
          <p:nvPr/>
        </p:nvPicPr>
        <p:blipFill>
          <a:blip r:embed="rId2"/>
          <a:srcRect l="1769" t="0" r="52241" b="0"/>
          <a:stretch/>
        </p:blipFill>
        <p:spPr>
          <a:xfrm>
            <a:off x="4214880" y="1571760"/>
            <a:ext cx="2361960" cy="3209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Users\Пользователь\Desktop\лаборатория\ПРЕЗ\поход 3.jpg"/>
          <p:cNvPicPr/>
          <p:nvPr/>
        </p:nvPicPr>
        <p:blipFill>
          <a:blip r:embed="rId3"/>
          <a:srcRect l="8790" t="12506" r="50920" b="18464"/>
          <a:stretch/>
        </p:blipFill>
        <p:spPr>
          <a:xfrm>
            <a:off x="1857240" y="3643200"/>
            <a:ext cx="2357640" cy="2786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0" descr="https://i.mycdn.me/i?r=AyH4iRPQ2q0otWIFepML2LxRQpQ6kK7XI-Cc2DKxqdF7JA&amp;fn=h_76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3800" y="2500200"/>
            <a:ext cx="2236680" cy="270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Пользователь\Desktop\лаборатория\ПРЕЗ\9.jpg"/>
          <p:cNvPicPr/>
          <p:nvPr/>
        </p:nvPicPr>
        <p:blipFill>
          <a:blip r:embed="rId6"/>
          <a:stretch/>
        </p:blipFill>
        <p:spPr>
          <a:xfrm>
            <a:off x="7500960" y="535788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Users\Пользователь\Desktop\Вера.jpg"/>
          <p:cNvPicPr/>
          <p:nvPr/>
        </p:nvPicPr>
        <p:blipFill>
          <a:blip r:embed="rId1"/>
          <a:stretch/>
        </p:blipFill>
        <p:spPr>
          <a:xfrm>
            <a:off x="285840" y="285840"/>
            <a:ext cx="2714400" cy="304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:\Users\Пользователь\Desktop\Троша.jpg"/>
          <p:cNvPicPr/>
          <p:nvPr/>
        </p:nvPicPr>
        <p:blipFill>
          <a:blip r:embed="rId2"/>
          <a:stretch/>
        </p:blipFill>
        <p:spPr>
          <a:xfrm>
            <a:off x="6215040" y="2857680"/>
            <a:ext cx="2584440" cy="31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:\Users\Пользователь\Desktop\Маша Русакова.jpg"/>
          <p:cNvPicPr/>
          <p:nvPr/>
        </p:nvPicPr>
        <p:blipFill>
          <a:blip r:embed="rId3"/>
          <a:stretch/>
        </p:blipFill>
        <p:spPr>
          <a:xfrm>
            <a:off x="6500880" y="571680"/>
            <a:ext cx="2286000" cy="289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Users\Пользователь\Desktop\Зяблик.jpg"/>
          <p:cNvPicPr/>
          <p:nvPr/>
        </p:nvPicPr>
        <p:blipFill>
          <a:blip r:embed="rId4"/>
          <a:stretch/>
        </p:blipFill>
        <p:spPr>
          <a:xfrm>
            <a:off x="3429000" y="3143160"/>
            <a:ext cx="278604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Users\Пользователь\Desktop\Ирина Борисовна.jpg"/>
          <p:cNvPicPr/>
          <p:nvPr/>
        </p:nvPicPr>
        <p:blipFill>
          <a:blip r:embed="rId5"/>
          <a:stretch/>
        </p:blipFill>
        <p:spPr>
          <a:xfrm>
            <a:off x="3500280" y="785880"/>
            <a:ext cx="2428920" cy="278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Users\Пользователь\Desktop\Антон.jpg"/>
          <p:cNvPicPr/>
          <p:nvPr/>
        </p:nvPicPr>
        <p:blipFill>
          <a:blip r:embed="rId6"/>
          <a:stretch/>
        </p:blipFill>
        <p:spPr>
          <a:xfrm>
            <a:off x="428760" y="3429000"/>
            <a:ext cx="2714400" cy="3000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ют д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6000840"/>
            <a:ext cx="8229600" cy="1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ы читателей, оставленные в сети Интерн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но обращаю внимание на книги серии «Лауреаты Международного конкурса имени Сергея Михалкова». Во-первых, можно составить представление о современном литературном процессе, во-вторых, - серия как раз по возрасту моей дочке, и она с удовольствием читает эти книги. Новое наше приобретение - «Поход к двум водопадам» Дарьи Доцук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чка прочитала эту книгу в рамках летнего чтения… Рассказывала, что очень жизненная, трогательная подростковая повесть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считаю правильным, что произведения судят два жюри: детское и взрослое. Например, эта книга, заставит задуматься о многом не только школьников, но и родителей, и учителей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нига о великодушии и прощении, об умении терпеть, ждать и любить мир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7500960" y="528624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ченических отзыв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500040"/>
            <a:ext cx="404028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2920" y="714240"/>
            <a:ext cx="43545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ь никого не оставит равнодушным. В  ней затронуты проблемы, которые могут возникнуть у детей в подростковом возрасте: проблема буллинга, невзаимной любви, потеря близкого человека, предательство лучшей подруги, обиды, хулиганство. Книга даёт мотивационный толчок к саморазвити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я 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й взгляд, более важными проблемами являются взаимоотношения между одноклассниками и детско-родительские отношения. Вера живёт в поэтической реальности. Сама я не очень люблю поэзию и не сочиняю музыку, поэтому девочка кажется немного стран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а 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книги помогают подросткам  не замкнуться в себе, поговорить по душам, перебороть страх быть непонятым, непризнанным, учат быть       ответственным за свои поступ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стасия 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500040"/>
            <a:ext cx="404172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5080" y="714240"/>
            <a:ext cx="4356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ре так много людей, которые могли бы сломить нас. Но ещё больше тех, кто всегда на твоей стороне и кто не бросит в трудный час. А эта повесть ещё раз доказывает, что нет лучшего лекарства, чем поддержка и взаимопомощ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я 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коллективизм – это совместная деятельность, общие интересы, постоянная готовность к взаимодействию и взаимопомощи, сплоченность и единство группы. А 8 класс – это стая, где главный аргумент – си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а 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внимание ничем не замениш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Борисовна - воплощение доброты, милосердия и справедлив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я Вадим проявил сострадание к Троше. Он как медведь, но сколько в нём добра. Человек с «великаньей душой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стасия 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культурная идент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 и внешне соотносит себя с указанной культу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но приемлет базовые культурные ценности, характеристики и нормы этого сообщ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в рамках определенной      традиции и 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ых сцена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Пользователь\Desktop\slide-24.jpg"/>
          <p:cNvPicPr/>
          <p:nvPr/>
        </p:nvPicPr>
        <p:blipFill>
          <a:blip r:embed="rId1"/>
          <a:stretch/>
        </p:blipFill>
        <p:spPr>
          <a:xfrm>
            <a:off x="642960" y="1714680"/>
            <a:ext cx="364320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духовно-нравственные ценност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1143000"/>
            <a:ext cx="25005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выруч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14760" y="1213920"/>
            <a:ext cx="6215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скалолазании главное – не залезть повыше, а партнерство и взаимовыручка, ответственность за напарни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ед глазами возникли две дымящиеся чашки. Желтый бульон с россыпью укропа на поверхности. Вдохнешь горячий аромат – и уже сытно. А возьмешь чашку в замерзшие руки – она заберет себе холод, а взамен отдаст тепло. Научиться бы тоже так – забирать холод и отдавать тепл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не впервые боролась с желанием кому-то помоч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там твоя семья, а потом вдруг раз – и нет семьи. И города тоже как будто нет. Как снесли. Одни развалины кругом.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тя разжал кулачок и отпустил мой свитер. Поверил, что я буду крепко его держат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7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500040" y="2571840"/>
            <a:ext cx="2000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духовно-нравственные ц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356840"/>
            <a:ext cx="2928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86080" y="1357200"/>
            <a:ext cx="5572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Это и правда было не наше дело. Или все-таки наше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– это способ изменить мир к лучшему, добавить ему добра и справедливост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бовь сильнее, чем смерт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ди с великаньей душой никогда не исчезают совсе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вуки уходят легко, не то что чувства. Кажется, что некоторые чувства никогда не отболя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всю жизнь будет в сердце сквозня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714240" y="3571920"/>
            <a:ext cx="2000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Пользователь\Desktop\буклук.jpg"/>
          <p:cNvPicPr/>
          <p:nvPr/>
        </p:nvPicPr>
        <p:blipFill>
          <a:blip r:embed="rId1"/>
          <a:stretch/>
        </p:blipFill>
        <p:spPr>
          <a:xfrm>
            <a:off x="1571760" y="1000080"/>
            <a:ext cx="600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Пользователь\Desktop\лаборатория\ПРЕЗ\3.jpg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170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Users\Пользователь\Desktop\лаборатория\ПРЕЗ\5.jpg"/>
          <p:cNvPicPr/>
          <p:nvPr/>
        </p:nvPicPr>
        <p:blipFill>
          <a:blip r:embed="rId2"/>
          <a:stretch/>
        </p:blipFill>
        <p:spPr>
          <a:xfrm>
            <a:off x="500040" y="2143080"/>
            <a:ext cx="3071880" cy="37861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3929040" y="2286000"/>
            <a:ext cx="4929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4 году издательство «Детская литература» начало выпуск серии книг «Лауреаты Международного конкурса имени Сергея Михалкова». В ней публикуются произведения, вошедшие в шорт-листы конкурсов. Эти книги помогут читателям-подросткам открыть для себя новых современных талантливых авторов</a:t>
            </a:r>
            <a:r>
              <a:rPr b="0" lang="ru-RU" sz="18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C:\Users\Пользователь\Desktop\лаборатория\ПРЕЗ\4.jpg"/>
          <p:cNvPicPr/>
          <p:nvPr/>
        </p:nvPicPr>
        <p:blipFill>
          <a:blip r:embed="rId3"/>
          <a:srcRect l="0" t="28524" r="1694" b="3755"/>
          <a:stretch/>
        </p:blipFill>
        <p:spPr>
          <a:xfrm>
            <a:off x="4071960" y="4572000"/>
            <a:ext cx="4786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home\Desktop\Читайте.jpg"/>
          <p:cNvPicPr/>
          <p:nvPr/>
        </p:nvPicPr>
        <p:blipFill>
          <a:blip r:embed="rId1"/>
          <a:stretch/>
        </p:blipFill>
        <p:spPr>
          <a:xfrm>
            <a:off x="468360" y="1413000"/>
            <a:ext cx="82296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ценности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«Стратегии национальной безопасности Росси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, достоинство, права и свободы челове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з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твеннос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ние Отечеству и ответственность за его судьб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нравственные идеал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кая семь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идательный труд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 духовного над материальны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зм, милосердие, справедливос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из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 и взаимоуваж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память и преемственность поколен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народов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плохо подобранные книги хуже и вреднее, чем ничего не читать.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Г. Белинск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143080"/>
            <a:ext cx="34718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книг, как и среди людей, можно попасть в хорошее и дурное общество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ьвец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2143080"/>
            <a:ext cx="4038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целью воспитания человека может быть только сам человек… а в человеке цель воспитания составляет ду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 Уш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конкурс имени Сергея Михал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285880" y="4429080"/>
            <a:ext cx="34290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3" descr="C:\Users\Пользователь\Desktop\лаборатория\ПРЕЗ\Портрет.jpg"/>
          <p:cNvPicPr/>
          <p:nvPr/>
        </p:nvPicPr>
        <p:blipFill>
          <a:blip r:embed="rId1"/>
          <a:stretch/>
        </p:blipFill>
        <p:spPr>
          <a:xfrm>
            <a:off x="357120" y="1643040"/>
            <a:ext cx="392904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4357800" y="1643040"/>
            <a:ext cx="4429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кур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ение лучших традиций отечественной литературы для подростк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продвижение талантливых авторов, пишущих для читателей 12-17 лет на русском языке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подростков духовно-нравственных ценностей, патриотизма, ответственной гражданской позиции, верности традициям отечественной культуры, исторического созн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Пользователь\Desktop\лаборатория\ПРЕЗ\9.jpg"/>
          <p:cNvPicPr/>
          <p:nvPr/>
        </p:nvPicPr>
        <p:blipFill>
          <a:blip r:embed="rId2"/>
          <a:stretch/>
        </p:blipFill>
        <p:spPr>
          <a:xfrm>
            <a:off x="2143080" y="4995720"/>
            <a:ext cx="22147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конкурс имени Сергея Михал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6215040" y="4286160"/>
            <a:ext cx="2143080" cy="146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Пользователь\Desktop\лаборатория\ПРЕЗ\13.jpg"/>
          <p:cNvPicPr/>
          <p:nvPr/>
        </p:nvPicPr>
        <p:blipFill>
          <a:blip r:embed="rId2"/>
          <a:stretch/>
        </p:blipFill>
        <p:spPr>
          <a:xfrm>
            <a:off x="5643720" y="1500120"/>
            <a:ext cx="3286080" cy="235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Пользователь\Desktop\лаборатория\ПРЕЗ\21.jpg"/>
          <p:cNvPicPr/>
          <p:nvPr/>
        </p:nvPicPr>
        <p:blipFill>
          <a:blip r:embed="rId3"/>
          <a:srcRect l="4296" t="17191" r="2538" b="0"/>
          <a:stretch/>
        </p:blipFill>
        <p:spPr>
          <a:xfrm>
            <a:off x="214200" y="1500120"/>
            <a:ext cx="54295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онкур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125000"/>
            <a:ext cx="4535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конкурс – 2007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ия учреждена в 2008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0 года имеет международный стату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дитель -  Российский Фонд Культуры и Совет по детской книг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з Конкурса:«Сегодня - дети, завтра - нар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ость - один раз в два г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7960" y="1142640"/>
            <a:ext cx="42447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состава жюри: взрослое и детское (12 подростков в возрасте от 12 до 16 л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ами становятся 13 авторов лучших рабо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лауреата Конкурса получают денежную прем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6143760" y="4857840"/>
            <a:ext cx="2714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310824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ы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Международного конкурса имени Сергея Михалкова (2014)</a:t>
            </a: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1560" y="642600"/>
            <a:ext cx="51116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рем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Дегтярёва. Степной вет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премия — Татьяна Корниенко Херсонеси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премия — Михаил Логинов. Ключ от города Антонов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Турханов. Грустный гном, веселый гн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Шипошина. Ангелы не бросают сво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Колпакова. Луч широкой сторо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а Манахова . Двенадцать зр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лия Амраева. Гер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ана Лабузнова. Билет до Луны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да Васильева. Гага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рий Клячин. Страшная тайна братьев Кораблев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лия Кузнецова. Фонарик Лиль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Андрианова. Сто фактов обо мн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3008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642960" y="3429000"/>
            <a:ext cx="23572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3008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ы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Международного конкурса имени Сергея Михалкова (2016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71560" y="571320"/>
            <a:ext cx="511164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ремия — не присуждала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премия — Михаил Фёдоров. Два всадника на одном ко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премия — Александр Турханов. За горами, за лес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премия — Андрей Максимов. Солнце на дорог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на Орлова-Маркграф. Хочешь жить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енти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Шипошина. Тайна горы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занна Кулешова.  Литейный мос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Ленковская (Крживицкая). Реставратор птичьих гнёз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х Книжник. Ты любишь науку или н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ья Доцук. Поход к двум водопа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ана Волкова. Джентльмены и снегов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Зайцева. Три шага из дет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я Басова. Деньги, дворняги,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Кудрявцева. Сотворение ми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3008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Пользователь\Desktop\лаборатория\ПРЕЗ\9.jpg"/>
          <p:cNvPicPr/>
          <p:nvPr/>
        </p:nvPicPr>
        <p:blipFill>
          <a:blip r:embed="rId1"/>
          <a:stretch/>
        </p:blipFill>
        <p:spPr>
          <a:xfrm>
            <a:off x="428760" y="3286080"/>
            <a:ext cx="28573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4:53:15Z</dcterms:created>
  <dc:creator>Колька</dc:creator>
  <dc:description/>
  <dc:language>en-US</dc:language>
  <cp:lastModifiedBy>Пользователь</cp:lastModifiedBy>
  <dcterms:modified xsi:type="dcterms:W3CDTF">2024-04-13T18:04:06Z</dcterms:modified>
  <cp:revision>191</cp:revision>
  <dc:subject/>
  <dc:title>Слайд 1</dc:title>
</cp:coreProperties>
</file>