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892-BC11-4542-AFF7-6F1C5A62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771-88FA-4EAB-B8EF-04961CD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C85-320C-465D-819F-1054F1D9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02A-9A62-489D-A8B5-8D88F646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6B9-3643-4253-B7C0-24A7F06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624-1AF2-46B3-B662-055A1B3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42D-DE8B-4394-8C6F-097FD59D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5C0-00FD-425F-8646-53608E5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A65-CAAD-4F64-9389-5C75FAA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415-5970-4871-A6AB-0F4CF5F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888-1576-4B1E-99E2-46344AD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2F7-D700-491D-9106-9DE2D7D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9E4-CEDC-422C-BEA5-E442E56CE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livelib.ru/book/1001522675/reviews-dvenadtsat-zritelej-inna-manahova" TargetMode="External"/><Relationship Id="rId2" Type="http://schemas.openxmlformats.org/officeDocument/2006/relationships/hyperlink" Target="https://www.livelib.ru/review/3534889-dvenadtsat-zritelej-inna-manahova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600" y="1571760"/>
            <a:ext cx="5786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воспитание подростков средствами современной детско-юношеской литературы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ниг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ы Манаховой «Двенадцать зрителей»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4429080"/>
            <a:ext cx="75722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Некрасова Светлана Ивановна, учитель русского языка и литературы МБОУ СОШ с. Паш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анасьевского муниципального округа Кир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5840" y="35712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лабора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традиционных ценностей обучающихся  на уроках литературы: содержание, методика и эффективные практики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928880" y="5643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АУ ДПО«Институт развития образования Кир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500960" y="5335560"/>
            <a:ext cx="1382760" cy="1163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12 cover"/>
          <p:cNvPicPr/>
          <p:nvPr/>
        </p:nvPicPr>
        <p:blipFill>
          <a:blip r:embed="rId2"/>
          <a:stretch/>
        </p:blipFill>
        <p:spPr>
          <a:xfrm>
            <a:off x="428760" y="1285920"/>
            <a:ext cx="25923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4200" y="928800"/>
            <a:ext cx="42544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5080" y="1000080"/>
            <a:ext cx="42847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3197160" cy="35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072040" y="1643040"/>
            <a:ext cx="3432240" cy="357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Пользователь\Desktop\лаборатория\ПРЕЗ\9.jpg"/>
          <p:cNvPicPr/>
          <p:nvPr/>
        </p:nvPicPr>
        <p:blipFill>
          <a:blip r:embed="rId3"/>
          <a:stretch/>
        </p:blipFill>
        <p:spPr>
          <a:xfrm>
            <a:off x="750096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428328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57520" y="928440"/>
            <a:ext cx="3498840" cy="2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17720"/>
            <a:ext cx="2714760" cy="284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214720" y="3400560"/>
            <a:ext cx="2786040" cy="31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1003320"/>
            <a:ext cx="2643120" cy="2854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6278400" y="3357720"/>
            <a:ext cx="2651400" cy="323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Пользователь\Desktop\лаборатория\ПРЕЗ\9.jpg"/>
          <p:cNvPicPr/>
          <p:nvPr/>
        </p:nvPicPr>
        <p:blipFill>
          <a:blip r:embed="rId5"/>
          <a:stretch/>
        </p:blipFill>
        <p:spPr>
          <a:xfrm>
            <a:off x="4929120" y="542916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4200" y="856800"/>
            <a:ext cx="4283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5080" y="856800"/>
            <a:ext cx="4284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71680" y="1330200"/>
            <a:ext cx="2928600" cy="3470400"/>
          </a:xfrm>
          <a:prstGeom prst="rect">
            <a:avLst/>
          </a:prstGeom>
          <a:ln w="0">
            <a:noFill/>
          </a:ln>
        </p:spPr>
      </p:pic>
      <p:pic>
        <p:nvPicPr>
          <p:cNvPr id="107" name="Объект 5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2714760" cy="307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6357960" y="3430440"/>
            <a:ext cx="2571840" cy="3111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Пользователь\Desktop\лаборатория\ПРЕЗ\9.jpg"/>
          <p:cNvPicPr/>
          <p:nvPr/>
        </p:nvPicPr>
        <p:blipFill>
          <a:blip r:embed="rId4"/>
          <a:stretch/>
        </p:blipFill>
        <p:spPr>
          <a:xfrm>
            <a:off x="407196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856800"/>
            <a:ext cx="428328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5080" y="856800"/>
            <a:ext cx="428472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186000" cy="362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3929040" y="1357200"/>
            <a:ext cx="2571840" cy="264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215040" y="3533760"/>
            <a:ext cx="2714760" cy="306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Пользователь\Desktop\лаборатория\ПРЕЗ\9.jpg"/>
          <p:cNvPicPr/>
          <p:nvPr/>
        </p:nvPicPr>
        <p:blipFill>
          <a:blip r:embed="rId4"/>
          <a:stretch/>
        </p:blipFill>
        <p:spPr>
          <a:xfrm>
            <a:off x="385776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ы читателей, оставленные в сети 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вочка-подросток просит помочь с выбором современной интересной книги для чтения,  я  обязательно включаю "Двенадцать зрителей" (если книга свободна). Отдельное спасибо издательству: качество бумаги, шрифт, рисунки - все для того, чтобы наслаждаться чтени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ivelib.ru/book/1001522675/reviews-dvenadtsat-zritelej-inna-manaho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вование выстроено четко и увлекательно, за Аню все время как-то опасаешься, ждешь, что вот-вот все станет совсем плохо, поэтому не отрываешься от чте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livelib.ru/review/3534889-dvenadtsat-zritelej-inna-manaho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у сразу - обожаю эту книгу. Картинки тоже играют немаловажную роль. Мне понравилось разглядывать и сопоставлять их с текстом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https://www.livelib.ru/review/974124-dvenadtsat-zritelej-inna-manaho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C:\Users\Пользователь\Desktop\лаборатория\ПРЕЗ\9.jpg"/>
          <p:cNvPicPr/>
          <p:nvPr/>
        </p:nvPicPr>
        <p:blipFill>
          <a:blip r:embed="rId3"/>
          <a:stretch/>
        </p:blipFill>
        <p:spPr>
          <a:xfrm>
            <a:off x="750096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духовно-нравственные ценност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4200" y="1356840"/>
            <a:ext cx="2500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ая сем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выруч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своб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71840" y="1142640"/>
            <a:ext cx="6286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жизни – в любимых людях!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любимых людей нужно бороться!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стоящая любовь – это когда вы разговариваете о чем угодно и легко понимаете друг друга, иногда даже без с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я тоже звонил ей в дверь, весь избитый, и она выбежала ко мне во двор, не испугавшись оравы пацанов в спортивных костюмах и с велосипедными цепями… Я тогда ее зауважа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, чтобы у тебя в жизни случилось чудо, просто совершай по несколько хороших поступков каждый день, и чудо рано или поздно произойде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ть хорошие поступки оказалось делом непросты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добро – пусть даже маленькое – очень приятно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когда ты понимаешь, что кто-то милый, глупый и забавный исчез из твоей жизни на веки вечные, вдруг хочется отмотать время назад, и посмотреть на этого человека еще разок, и, может быть, даже набраться смелости и сказать ему что-нибудь хорошее в благодарность за маленькую и смешную радост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572240" y="714240"/>
            <a:ext cx="107172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духовно-нравственные ц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120" y="1356840"/>
            <a:ext cx="2928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86080" y="1357200"/>
            <a:ext cx="5572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игре, да и в жизни побеждает не самый сильный, а тот, кто никогда не сд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спытывала странную, ни с чем не сравнимую радость от того, что нашла кого-то, немного похожего на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а, может быть, еще талантливее меня», - подумала я, впрочем без всякой зависти. Наоборот, я испытывала искреннее восхищение и странное чувство родства с этой девочко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шь, со взрослыми тяжело : они хотят только выигрывать, а играть просто так им неинтересно, да и не умеют о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серьезные и важные мгновения, круто меняющие человеческую жизнь, не имеют никакого воплощения в ми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14240" y="3571920"/>
            <a:ext cx="2000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8760" y="1142640"/>
            <a:ext cx="40388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Aharon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игре, да и в жизни побеждает не самый сильный, а тот, кто никогда не сд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C:\Users\Пользователь\Desktop\12\Фото_Манахова_Инна_a9600.jpg"/>
          <p:cNvPicPr/>
          <p:nvPr/>
        </p:nvPicPr>
        <p:blipFill>
          <a:blip r:embed="rId1"/>
          <a:stretch/>
        </p:blipFill>
        <p:spPr>
          <a:xfrm>
            <a:off x="214200" y="285840"/>
            <a:ext cx="2500560" cy="3052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12 cover"/>
          <p:cNvPicPr/>
          <p:nvPr/>
        </p:nvPicPr>
        <p:blipFill>
          <a:blip r:embed="rId2"/>
          <a:stretch/>
        </p:blipFill>
        <p:spPr>
          <a:xfrm>
            <a:off x="2643120" y="292896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Пользователь\Desktop\лаборатория\ПРЕЗ\9.jpg"/>
          <p:cNvPicPr/>
          <p:nvPr/>
        </p:nvPicPr>
        <p:blipFill>
          <a:blip r:embed="rId4"/>
          <a:stretch/>
        </p:blipFill>
        <p:spPr>
          <a:xfrm>
            <a:off x="7143840" y="5072040"/>
            <a:ext cx="1636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home\Desktop\Читайте.jpg"/>
          <p:cNvPicPr/>
          <p:nvPr/>
        </p:nvPicPr>
        <p:blipFill>
          <a:blip r:embed="rId1"/>
          <a:stretch/>
        </p:blipFill>
        <p:spPr>
          <a:xfrm>
            <a:off x="468360" y="1413000"/>
            <a:ext cx="82296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конкур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Сергея Михал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Пользователь\Desktop\лаборатория\ПРЕЗ\Портрет.jpg"/>
          <p:cNvPicPr/>
          <p:nvPr/>
        </p:nvPicPr>
        <p:blipFill>
          <a:blip r:embed="rId1"/>
          <a:stretch/>
        </p:blipFill>
        <p:spPr>
          <a:xfrm>
            <a:off x="214200" y="285840"/>
            <a:ext cx="335772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4286160" y="1357200"/>
            <a:ext cx="4643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лучших традиций отечественной литературы для подрост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продвижение талантливых авторов, пишущих для читателей 12-17 лет на русском языке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подростков духовно-нравственных ценностей, патриотизма, ответственной гражданской позиции, верности традициям отечественной культуры, исторического созн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Пользователь\Desktop\лаборатория\ПРЕЗ\9.jpg"/>
          <p:cNvPicPr/>
          <p:nvPr/>
        </p:nvPicPr>
        <p:blipFill>
          <a:blip r:embed="rId2"/>
          <a:stretch/>
        </p:blipFill>
        <p:spPr>
          <a:xfrm>
            <a:off x="2500200" y="5429160"/>
            <a:ext cx="1500480" cy="10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Пользователь\Desktop\лаборатория\ПРЕЗ\13.jpg"/>
          <p:cNvPicPr/>
          <p:nvPr/>
        </p:nvPicPr>
        <p:blipFill>
          <a:blip r:embed="rId3"/>
          <a:stretch/>
        </p:blipFill>
        <p:spPr>
          <a:xfrm>
            <a:off x="285840" y="2357280"/>
            <a:ext cx="32860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а Васильевна Манах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6160" y="1214280"/>
            <a:ext cx="44006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2 декабря 1986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: Оренбургский государственный педагогический университет (ф-т иностранных язык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т  и работает в родном городе Оренбур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сти – журналист-переводч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пишет с детства, прозу начала писать после 20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сотрудничает с Оренбургской областной полиэтнической детской библиоте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 году  была участником программы «Территория культуры Росатом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2786040" y="5214960"/>
            <a:ext cx="147636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Inna Manahova"/>
          <p:cNvPicPr/>
          <p:nvPr/>
        </p:nvPicPr>
        <p:blipFill>
          <a:blip r:embed="rId2"/>
          <a:stretch/>
        </p:blipFill>
        <p:spPr>
          <a:xfrm>
            <a:off x="500040" y="135720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нагр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14520" y="714240"/>
            <a:ext cx="4714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- литературный конкурс для молодых авторов «Дебют» (рассказ «Игра в мяч» вошёл в лонг-лист конкурса в номинации «Малая проза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– Всероссийский конкурс «Книгуру»  (повесть «Первый шаг» вошла в «длинный» списо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— премия молодёжного жюри IV Международного конкурса имени Сергея Михалкова (за сборник «Двенадцать зрителей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— поощрительный диплом IV Международного конкурса имени Сергея Михалкова (за повесть «Монолог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– Знак «Нравится детям» (за повесть «Театр тене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Пользователь\Desktop\12\девочка.jpg"/>
          <p:cNvPicPr/>
          <p:nvPr/>
        </p:nvPicPr>
        <p:blipFill>
          <a:blip r:embed="rId1"/>
          <a:stretch/>
        </p:blipFill>
        <p:spPr>
          <a:xfrm>
            <a:off x="2214720" y="3214800"/>
            <a:ext cx="192852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Пользователь\Desktop\12\Монолог.jpg"/>
          <p:cNvPicPr/>
          <p:nvPr/>
        </p:nvPicPr>
        <p:blipFill>
          <a:blip r:embed="rId2"/>
          <a:stretch/>
        </p:blipFill>
        <p:spPr>
          <a:xfrm>
            <a:off x="2214720" y="357120"/>
            <a:ext cx="192852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Пользователь\Desktop\12\театр.jpg"/>
          <p:cNvPicPr/>
          <p:nvPr/>
        </p:nvPicPr>
        <p:blipFill>
          <a:blip r:embed="rId3"/>
          <a:stretch/>
        </p:blipFill>
        <p:spPr>
          <a:xfrm>
            <a:off x="214200" y="2786040"/>
            <a:ext cx="1928880" cy="2500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12 cover"/>
          <p:cNvPicPr/>
          <p:nvPr/>
        </p:nvPicPr>
        <p:blipFill>
          <a:blip r:embed="rId4"/>
          <a:stretch/>
        </p:blipFill>
        <p:spPr>
          <a:xfrm>
            <a:off x="214200" y="214200"/>
            <a:ext cx="200052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ия молодежного жюри (201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4200" y="1142640"/>
            <a:ext cx="428328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старше 12 лет (12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12 cover"/>
          <p:cNvPicPr/>
          <p:nvPr/>
        </p:nvPicPr>
        <p:blipFill>
          <a:blip r:embed="rId1"/>
          <a:stretch/>
        </p:blipFill>
        <p:spPr>
          <a:xfrm>
            <a:off x="500040" y="1500120"/>
            <a:ext cx="3143160" cy="391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" descr="12 girl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500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Пользователь\Desktop\лаборатория\ПРЕЗ\9.jpg"/>
          <p:cNvPicPr/>
          <p:nvPr/>
        </p:nvPicPr>
        <p:blipFill>
          <a:blip r:embed="rId3"/>
          <a:stretch/>
        </p:blipFill>
        <p:spPr>
          <a:xfrm>
            <a:off x="3286080" y="521496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2714760" y="53578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079880" y="214200"/>
            <a:ext cx="4950000" cy="6357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2 cover"/>
          <p:cNvPicPr/>
          <p:nvPr/>
        </p:nvPicPr>
        <p:blipFill>
          <a:blip r:embed="rId3"/>
          <a:stretch/>
        </p:blipFill>
        <p:spPr>
          <a:xfrm>
            <a:off x="214200" y="285840"/>
            <a:ext cx="371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художника Анатолия Шевченко делают эту книгу еще глубже и ярче. А образы, найденные художником, раскрывают характеры, придавая большую объемность и реализм событиям, описанным в повест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500960" y="5357880"/>
            <a:ext cx="14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Пользователь\Desktop\12\1.jpg"/>
          <p:cNvPicPr/>
          <p:nvPr/>
        </p:nvPicPr>
        <p:blipFill>
          <a:blip r:embed="rId2"/>
          <a:stretch/>
        </p:blipFill>
        <p:spPr>
          <a:xfrm>
            <a:off x="779400" y="1600200"/>
            <a:ext cx="2935440" cy="343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Пользователь\Desktop\12\3.jpg"/>
          <p:cNvPicPr/>
          <p:nvPr/>
        </p:nvPicPr>
        <p:blipFill>
          <a:blip r:embed="rId3"/>
          <a:srcRect l="49529" t="44222" r="6249" b="13326"/>
          <a:stretch/>
        </p:blipFill>
        <p:spPr>
          <a:xfrm>
            <a:off x="4500720" y="1571760"/>
            <a:ext cx="39290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32860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7840" y="999720"/>
            <a:ext cx="382896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322884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Объект 4" descr=""/>
          <p:cNvPicPr/>
          <p:nvPr/>
        </p:nvPicPr>
        <p:blipFill>
          <a:blip r:embed="rId2"/>
          <a:stretch/>
        </p:blipFill>
        <p:spPr>
          <a:xfrm>
            <a:off x="3429000" y="1500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6000840" y="3170160"/>
            <a:ext cx="3000240" cy="340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Пользователь\Desktop\лаборатория\ПРЕЗ\9.jpg"/>
          <p:cNvPicPr/>
          <p:nvPr/>
        </p:nvPicPr>
        <p:blipFill>
          <a:blip r:embed="rId4"/>
          <a:stretch/>
        </p:blipFill>
        <p:spPr>
          <a:xfrm>
            <a:off x="385776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обр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428292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3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857160"/>
            <a:ext cx="404172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3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3000600" cy="33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3047760" cy="392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5929200" y="1000080"/>
            <a:ext cx="300060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Пользователь\Desktop\лаборатория\ПРЕЗ\9.jpg"/>
          <p:cNvPicPr/>
          <p:nvPr/>
        </p:nvPicPr>
        <p:blipFill>
          <a:blip r:embed="rId4"/>
          <a:stretch/>
        </p:blipFill>
        <p:spPr>
          <a:xfrm>
            <a:off x="750096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4:53:15Z</dcterms:created>
  <dc:creator>Колька</dc:creator>
  <dc:description/>
  <dc:language>en-US</dc:language>
  <cp:lastModifiedBy>user</cp:lastModifiedBy>
  <dcterms:modified xsi:type="dcterms:W3CDTF">2025-04-23T08:10:09Z</dcterms:modified>
  <cp:revision>213</cp:revision>
  <dc:subject/>
  <dc:title>Слайд 1</dc:title>
</cp:coreProperties>
</file>