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37.jpeg" ContentType="image/jpeg"/>
  <Override PartName="/ppt/media/image40.png" ContentType="image/png"/>
  <Override PartName="/ppt/media/image11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33.png" ContentType="image/png"/>
  <Override PartName="/ppt/media/image14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6.png" ContentType="image/png"/>
  <Override PartName="/ppt/media/image3.gif" ContentType="image/gif"/>
  <Override PartName="/ppt/media/image8.png" ContentType="image/png"/>
  <Override PartName="/ppt/media/image39.jpeg" ContentType="image/jpeg"/>
  <Override PartName="/ppt/media/image4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BF7-32A3-418E-9CC1-724391C9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F2C-A54E-4773-9EDC-C7BCB1A5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E6C-C40C-4B02-A4AD-126945D7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305-F7D0-420F-92E9-EDCB86A3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2F4-B8E0-4B48-8DD8-65E4AA2C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06F-F51A-48D8-B0A0-E575DFD3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C9A-A189-421F-901C-A175DB2F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A60-C464-448E-8DFD-16EC29E8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49E-4583-4F2A-ACDF-EE5CD224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8D3-62A7-4D56-BA3F-D7461BA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B22-EDFC-4DFD-9BDD-089BF9B8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4D2-C31C-49DD-A27D-FAB7166B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C749-CA14-4704-809F-A685DD231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10.jpeg"/><Relationship Id="rId5" Type="http://schemas.openxmlformats.org/officeDocument/2006/relationships/image" Target="../media/image4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857160" y="32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2l3"/>
          <p:cNvPicPr/>
          <p:nvPr/>
        </p:nvPicPr>
        <p:blipFill>
          <a:blip r:embed="rId2"/>
          <a:stretch/>
        </p:blipFill>
        <p:spPr>
          <a:xfrm>
            <a:off x="857160" y="285840"/>
            <a:ext cx="7632720" cy="100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Рисунок73"/>
          <p:cNvPicPr/>
          <p:nvPr/>
        </p:nvPicPr>
        <p:blipFill>
          <a:blip r:embed="rId3"/>
          <a:stretch/>
        </p:blipFill>
        <p:spPr>
          <a:xfrm>
            <a:off x="857160" y="3500280"/>
            <a:ext cx="7848720" cy="619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611280" y="1428840"/>
            <a:ext cx="8532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Пословица – укорица, пословица – хвал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31640" y="3752640"/>
            <a:ext cx="4714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 работ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ншина Татья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5«в»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Гущ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тьяна Валерь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92896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Содержимое 6"/>
          <p:cNvSpPr/>
          <p:nvPr/>
        </p:nvSpPr>
        <p:spPr>
          <a:xfrm>
            <a:off x="714240" y="928800"/>
            <a:ext cx="80438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бойся когда не знаешь; страшно, когда знать не хоч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 освещается солнцем, а человек уче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ье да труд к славе вед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14200" y="0"/>
            <a:ext cx="85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Мир зна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214280" y="2928960"/>
            <a:ext cx="7386840" cy="360036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292896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Содержимое 2"/>
          <p:cNvSpPr/>
          <p:nvPr/>
        </p:nvSpPr>
        <p:spPr>
          <a:xfrm>
            <a:off x="642960" y="1000080"/>
            <a:ext cx="85010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га маленькое окошко – через него весь мир ви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ниге ищут не буквы, а мыс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сякий, кто читает, в чтении силу з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57120" y="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Увлекательный мир кни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071720" y="3071880"/>
            <a:ext cx="2700360" cy="360036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3786120" y="3071880"/>
            <a:ext cx="2430360" cy="360036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8" name="Picture 2" descr=""/>
          <p:cNvPicPr/>
          <p:nvPr/>
        </p:nvPicPr>
        <p:blipFill>
          <a:blip r:embed="rId4"/>
          <a:stretch/>
        </p:blipFill>
        <p:spPr>
          <a:xfrm>
            <a:off x="6215040" y="3071880"/>
            <a:ext cx="2700360" cy="360036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428760" y="0"/>
            <a:ext cx="8532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28760" y="142920"/>
            <a:ext cx="85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Тру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85880" y="1214280"/>
            <a:ext cx="8786880" cy="5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говори, что делал, а говори, что сдел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я и труд дивные всходы 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енькое дело лучше большого безд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1928880" y="2857680"/>
            <a:ext cx="5686200" cy="3600360"/>
          </a:xfrm>
          <a:prstGeom prst="rect">
            <a:avLst/>
          </a:prstGeom>
          <a:ln w="9360">
            <a:solidFill>
              <a:srgbClr val="92d05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857160" y="214200"/>
            <a:ext cx="5929560" cy="3600720"/>
          </a:xfrm>
          <a:prstGeom prst="rect">
            <a:avLst/>
          </a:prstGeom>
          <a:ln w="9360">
            <a:solidFill>
              <a:srgbClr val="0d0d0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4286160" y="3071880"/>
            <a:ext cx="4272120" cy="3600360"/>
          </a:xfrm>
          <a:prstGeom prst="rect">
            <a:avLst/>
          </a:prstGeom>
          <a:ln w="9360">
            <a:solidFill>
              <a:srgbClr val="262673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11" descr="IMG_0022"/>
          <p:cNvPicPr/>
          <p:nvPr/>
        </p:nvPicPr>
        <p:blipFill>
          <a:blip r:embed="rId3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928800" y="2857680"/>
            <a:ext cx="7877160" cy="360036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8" name="Text Box 5"/>
          <p:cNvSpPr/>
          <p:nvPr/>
        </p:nvSpPr>
        <p:spPr>
          <a:xfrm>
            <a:off x="300024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IMG_0022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611280" y="0"/>
            <a:ext cx="85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Спор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одержимое 2"/>
          <p:cNvSpPr/>
          <p:nvPr/>
        </p:nvSpPr>
        <p:spPr>
          <a:xfrm>
            <a:off x="642960" y="857160"/>
            <a:ext cx="8501040" cy="53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портом не дружишь – ни раз о том потуж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калка нужна и закалка важ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санки конь– ко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214720" y="214200"/>
            <a:ext cx="5786280" cy="3600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Picture 11" descr="IMG_0022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143000" y="2928960"/>
            <a:ext cx="4799160" cy="36003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115" name="Picture 2" descr=""/>
          <p:cNvPicPr/>
          <p:nvPr/>
        </p:nvPicPr>
        <p:blipFill>
          <a:blip r:embed="rId4"/>
          <a:stretch/>
        </p:blipFill>
        <p:spPr>
          <a:xfrm>
            <a:off x="6072120" y="2928960"/>
            <a:ext cx="2685960" cy="3600360"/>
          </a:xfrm>
          <a:prstGeom prst="rect">
            <a:avLst/>
          </a:prstGeom>
          <a:ln w="9360">
            <a:solidFill>
              <a:srgbClr val="ff006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292896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2"/>
          <p:cNvSpPr/>
          <p:nvPr/>
        </p:nvSpPr>
        <p:spPr>
          <a:xfrm>
            <a:off x="357120" y="21420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Обе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одержимое 4"/>
          <p:cNvSpPr/>
          <p:nvPr/>
        </p:nvSpPr>
        <p:spPr>
          <a:xfrm>
            <a:off x="785880" y="1285920"/>
            <a:ext cx="8115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ая весть, как скажут, что пора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тому ученье– утеха, голодному– пом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 ни есть, а хочется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643040" y="2928960"/>
            <a:ext cx="59850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28800" y="285840"/>
            <a:ext cx="4767120" cy="3600360"/>
          </a:xfrm>
          <a:prstGeom prst="rect">
            <a:avLst/>
          </a:prstGeom>
          <a:ln w="9360">
            <a:solidFill>
              <a:srgbClr val="161645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143680" y="3000240"/>
            <a:ext cx="3587400" cy="3600720"/>
          </a:xfrm>
          <a:prstGeom prst="rect">
            <a:avLst/>
          </a:prstGeom>
          <a:ln w="9360">
            <a:solidFill>
              <a:srgbClr val="00b05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3" name="Picture 11" descr="IMG_0022"/>
          <p:cNvPicPr/>
          <p:nvPr/>
        </p:nvPicPr>
        <p:blipFill>
          <a:blip r:embed="rId3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MCj04325790000[1]"/>
          <p:cNvPicPr/>
          <p:nvPr/>
        </p:nvPicPr>
        <p:blipFill>
          <a:blip r:embed="rId4"/>
          <a:stretch/>
        </p:blipFill>
        <p:spPr>
          <a:xfrm rot="4329000">
            <a:off x="1285920" y="4286160"/>
            <a:ext cx="3139920" cy="277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MCj04348720000[1]"/>
          <p:cNvPicPr/>
          <p:nvPr/>
        </p:nvPicPr>
        <p:blipFill>
          <a:blip r:embed="rId5"/>
          <a:stretch/>
        </p:blipFill>
        <p:spPr>
          <a:xfrm rot="15763800">
            <a:off x="6384600" y="472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292896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Содержимое 2"/>
          <p:cNvSpPr/>
          <p:nvPr/>
        </p:nvSpPr>
        <p:spPr>
          <a:xfrm>
            <a:off x="714240" y="1000080"/>
            <a:ext cx="79012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от друг кто медком помажет, а тот кто правду ска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 сильны крыльями, а люди друж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милого дружка и серёжка из 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57120" y="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Друж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500120" y="3000240"/>
            <a:ext cx="6265800" cy="3600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857160" y="214200"/>
            <a:ext cx="5997600" cy="360072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857680" y="3000240"/>
            <a:ext cx="5708520" cy="3600720"/>
          </a:xfrm>
          <a:prstGeom prst="rect">
            <a:avLst/>
          </a:prstGeom>
          <a:ln w="9360">
            <a:solidFill>
              <a:srgbClr val="a6a6a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 rot="19782000">
            <a:off x="1440000" y="3546360"/>
            <a:ext cx="590400" cy="360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4"/>
          <a:stretch/>
        </p:blipFill>
        <p:spPr>
          <a:xfrm rot="19192800">
            <a:off x="7414920" y="-158760"/>
            <a:ext cx="1484280" cy="359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IMG_0022"/>
          <p:cNvPicPr/>
          <p:nvPr/>
        </p:nvPicPr>
        <p:blipFill>
          <a:blip r:embed="rId5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Мои документы\Таня\Презентация пословицы и поговорки\School\School\школа\3.png"/>
          <p:cNvPicPr/>
          <p:nvPr/>
        </p:nvPicPr>
        <p:blipFill>
          <a:blip r:embed="rId1"/>
          <a:stretch/>
        </p:blipFill>
        <p:spPr>
          <a:xfrm>
            <a:off x="6357960" y="4143240"/>
            <a:ext cx="2597040" cy="255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IMG_0022"/>
          <p:cNvPicPr/>
          <p:nvPr/>
        </p:nvPicPr>
        <p:blipFill>
          <a:blip r:embed="rId2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611280" y="0"/>
            <a:ext cx="85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Проблемный в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785880" y="17146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 пословиц есть ответ на все случаи жиз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292896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428760" y="14292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Драчуны и забия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одержимое 4"/>
          <p:cNvSpPr/>
          <p:nvPr/>
        </p:nvSpPr>
        <p:spPr>
          <a:xfrm>
            <a:off x="857160" y="1214280"/>
            <a:ext cx="782964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одного слова– навек сс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ться бранись, а рукам воли не дав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кою прав не буд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1785960" y="2928960"/>
            <a:ext cx="5908680" cy="3600360"/>
          </a:xfrm>
          <a:prstGeom prst="rect">
            <a:avLst/>
          </a:prstGeom>
          <a:ln w="9360">
            <a:solidFill>
              <a:srgbClr val="99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2857680" y="528624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Содержимое 2"/>
          <p:cNvSpPr/>
          <p:nvPr/>
        </p:nvSpPr>
        <p:spPr>
          <a:xfrm>
            <a:off x="714240" y="1000080"/>
            <a:ext cx="82296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поёт, того беда не бер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тер на все руки: и швец, и жнец, и на д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пок телом - богат и д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42920" y="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Наши увлеч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1857240" y="3071880"/>
            <a:ext cx="3543480" cy="35719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6" name="Picture 2" descr=""/>
          <p:cNvPicPr/>
          <p:nvPr/>
        </p:nvPicPr>
        <p:blipFill>
          <a:blip r:embed="rId3"/>
          <a:stretch/>
        </p:blipFill>
        <p:spPr>
          <a:xfrm>
            <a:off x="5429160" y="3071880"/>
            <a:ext cx="2390760" cy="3600360"/>
          </a:xfrm>
          <a:prstGeom prst="rect">
            <a:avLst/>
          </a:prstGeom>
          <a:ln w="9360">
            <a:solidFill>
              <a:srgbClr val="262673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3861000" cy="514836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4267080" y="357120"/>
            <a:ext cx="487692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929200" y="3714840"/>
            <a:ext cx="2853000" cy="273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 rot="4709400">
            <a:off x="1866240" y="-1410120"/>
            <a:ext cx="941400" cy="414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IMG_0022"/>
          <p:cNvPicPr/>
          <p:nvPr/>
        </p:nvPicPr>
        <p:blipFill>
          <a:blip r:embed="rId5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292896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214720" y="3000240"/>
            <a:ext cx="4957560" cy="360072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5" name=""/>
          <p:cNvSpPr txBox="1"/>
          <p:nvPr/>
        </p:nvSpPr>
        <p:spPr>
          <a:xfrm>
            <a:off x="785520" y="928800"/>
            <a:ext cx="79722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кая душа празднику р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а сказка складом, а песня ла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шай дело с бездельем, проводи время с весель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611280" y="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Праздн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857160" y="214200"/>
            <a:ext cx="5070600" cy="3600720"/>
          </a:xfrm>
          <a:prstGeom prst="rect">
            <a:avLst/>
          </a:prstGeom>
          <a:ln w="9360">
            <a:solidFill>
              <a:srgbClr val="262673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343400" y="3000240"/>
            <a:ext cx="4800600" cy="3600720"/>
          </a:xfrm>
          <a:prstGeom prst="rect">
            <a:avLst/>
          </a:prstGeom>
          <a:ln w="9360">
            <a:solidFill>
              <a:srgbClr val="ff006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 rot="1768800">
            <a:off x="1123920" y="4268880"/>
            <a:ext cx="2727360" cy="180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IMG_0022"/>
          <p:cNvPicPr/>
          <p:nvPr/>
        </p:nvPicPr>
        <p:blipFill>
          <a:blip r:embed="rId4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 rot="15087000">
            <a:off x="5928840" y="356400"/>
            <a:ext cx="2395800" cy="2195640"/>
          </a:xfrm>
          <a:prstGeom prst="rect">
            <a:avLst/>
          </a:prstGeom>
          <a:ln w="0">
            <a:noFill/>
          </a:ln>
        </p:spPr>
      </p:pic>
      <p:sp>
        <p:nvSpPr>
          <p:cNvPr id="162" name="Овал 9"/>
          <p:cNvSpPr/>
          <p:nvPr/>
        </p:nvSpPr>
        <p:spPr>
          <a:xfrm>
            <a:off x="7072200" y="2000160"/>
            <a:ext cx="285840" cy="3571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292896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2286000" y="3000240"/>
            <a:ext cx="4827600" cy="3600720"/>
          </a:xfrm>
          <a:prstGeom prst="rect">
            <a:avLst/>
          </a:prstGeom>
          <a:ln w="9360">
            <a:solidFill>
              <a:srgbClr val="99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28800" y="928800"/>
            <a:ext cx="821520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а познают в игре и в доро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чешь узнать человека — соверши с ним путеше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плохая дорога, чем плохой спут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857160" y="0"/>
            <a:ext cx="85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Путешеств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1" descr="IMG_0022"/>
          <p:cNvPicPr/>
          <p:nvPr/>
        </p:nvPicPr>
        <p:blipFill>
          <a:blip r:embed="rId1"/>
          <a:stretch/>
        </p:blipFill>
        <p:spPr>
          <a:xfrm>
            <a:off x="0" y="-54000"/>
            <a:ext cx="523800" cy="691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785880" y="428760"/>
            <a:ext cx="5656320" cy="36003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3143160" y="3000240"/>
            <a:ext cx="5622840" cy="3600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292896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одержимое 2"/>
          <p:cNvSpPr/>
          <p:nvPr/>
        </p:nvSpPr>
        <p:spPr>
          <a:xfrm>
            <a:off x="0" y="857160"/>
            <a:ext cx="907272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овицы недаром молвя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них прожить никак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великие помощ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жизни верные дру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й они нас наставля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ы мудрые д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й чему-то поуч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 беды нас берег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овица вовек не сломитс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ь с ней и горе, и б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ша речь красна пословиц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ак ли ведь, друзья 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428760" y="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Выв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MCj04325790000[1]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14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MCj04348720000[1]"/>
          <p:cNvPicPr/>
          <p:nvPr/>
        </p:nvPicPr>
        <p:blipFill>
          <a:blip r:embed="rId3"/>
          <a:stretch/>
        </p:blipFill>
        <p:spPr>
          <a:xfrm rot="18717600">
            <a:off x="1185480" y="51861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714240" y="0"/>
            <a:ext cx="585648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85768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1" descr="IMG_0022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 rot="21403800">
            <a:off x="2573280" y="934200"/>
            <a:ext cx="6326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990000"/>
                </a:solidFill>
                <a:latin typeface="Monotype Corsiva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14400" y="12142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, что  у  пословиц  есть  ответы  на  все  случаи 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 историю  послов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жанровые  особенности  послов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брать пословицы на все случаи из жизни моего класса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ь, что  пословица  недаром  молвитс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 значение  пословицы  в нравственном  воспитании 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D:\Мои документы\Таня\Презентация пословицы и поговорки\School\School\школа\12.png"/>
          <p:cNvPicPr/>
          <p:nvPr/>
        </p:nvPicPr>
        <p:blipFill>
          <a:blip r:embed="rId1"/>
          <a:stretch/>
        </p:blipFill>
        <p:spPr>
          <a:xfrm>
            <a:off x="6215040" y="3286080"/>
            <a:ext cx="2759040" cy="316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IMG_0022"/>
          <p:cNvPicPr/>
          <p:nvPr/>
        </p:nvPicPr>
        <p:blipFill>
          <a:blip r:embed="rId2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611280" y="0"/>
            <a:ext cx="8532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11280" y="0"/>
            <a:ext cx="85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Цель и задач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11280" y="0"/>
            <a:ext cx="8532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10717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1000080" y="1308600"/>
            <a:ext cx="8143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Что за золото пословицы! А что за роскошь, что за смысл, какой толк в каждой поговорке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.С. Пуш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овицы – краткие, мудрые изречения, имеющие поучительный смыс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овица составляет достояние целого народа и заключает в себе общее суждение или наставление на какой-нибудь случа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1214280" y="0"/>
            <a:ext cx="721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Вступл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MCj04325790000[1]"/>
          <p:cNvPicPr/>
          <p:nvPr/>
        </p:nvPicPr>
        <p:blipFill>
          <a:blip r:embed="rId2"/>
          <a:stretch/>
        </p:blipFill>
        <p:spPr>
          <a:xfrm>
            <a:off x="7072200" y="0"/>
            <a:ext cx="1828800" cy="161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MCj04348720000[1]"/>
          <p:cNvPicPr/>
          <p:nvPr/>
        </p:nvPicPr>
        <p:blipFill>
          <a:blip r:embed="rId3"/>
          <a:stretch/>
        </p:blipFill>
        <p:spPr>
          <a:xfrm rot="18846600">
            <a:off x="4614480" y="5257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MCj04348720000[1]"/>
          <p:cNvPicPr/>
          <p:nvPr/>
        </p:nvPicPr>
        <p:blipFill>
          <a:blip r:embed="rId4"/>
          <a:stretch/>
        </p:blipFill>
        <p:spPr>
          <a:xfrm rot="18846600">
            <a:off x="4615920" y="52592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14240" y="2214720"/>
            <a:ext cx="8429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аждая пословица - синтаксически законченное произвед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о композиции делятся на одночленные, двучленные и многочленн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Художественно-изобразительные средства и приемы: сравнения, метафоры, олицетворения, антитезы,              гиперболы, тавтоло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Разнообразны по форме высказывания (монолог, диалог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Ритмичность, краткость, устойчивость, широкая  употребляе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714240" y="0"/>
            <a:ext cx="8215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Жанровые особенности послови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Тематика послови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00120" y="1856880"/>
            <a:ext cx="6400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 – хозяйств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еверия – примет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астье – удач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– милость – зл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ские поро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вь – дружб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е – кни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D:\Мои документы\Таня\фоны презентаций\клипатры\школа\7.png"/>
          <p:cNvPicPr/>
          <p:nvPr/>
        </p:nvPicPr>
        <p:blipFill>
          <a:blip r:embed="rId2"/>
          <a:stretch/>
        </p:blipFill>
        <p:spPr>
          <a:xfrm rot="159600">
            <a:off x="6214680" y="2714400"/>
            <a:ext cx="2498760" cy="297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3071880" y="51436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Содержимое 2"/>
          <p:cNvSpPr/>
          <p:nvPr/>
        </p:nvSpPr>
        <p:spPr>
          <a:xfrm>
            <a:off x="642960" y="857160"/>
            <a:ext cx="811512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а знания даёт, а жизнь их провер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а гордится учениками, а ученики уч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бесценное дают в школе, а ценное в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28760" y="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Школа – наш д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143160" y="2857680"/>
            <a:ext cx="5602320" cy="3600360"/>
          </a:xfrm>
          <a:prstGeom prst="rect">
            <a:avLst/>
          </a:prstGeom>
          <a:ln w="9360">
            <a:solidFill>
              <a:srgbClr val="222268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42960" y="1143000"/>
            <a:ext cx="907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чьи сольются– реки, люди соединятся – с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иночку не одолеешь и кочку, артельно — и              через гору вп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лотившись, даже слабые мог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428760" y="0"/>
            <a:ext cx="85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Мой дружный клас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571840" y="3000240"/>
            <a:ext cx="5770440" cy="360072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2928960" y="5357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Содержимое 2"/>
          <p:cNvSpPr/>
          <p:nvPr/>
        </p:nvSpPr>
        <p:spPr>
          <a:xfrm>
            <a:off x="714240" y="857160"/>
            <a:ext cx="797256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тай учителя, как род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и создают тепло, учителя ду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да книг не заменит хорошего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ть — значит вдвойне уч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57120" y="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Наши учит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3571920" y="3071880"/>
            <a:ext cx="2817720" cy="3600360"/>
          </a:xfrm>
          <a:prstGeom prst="rect">
            <a:avLst/>
          </a:prstGeom>
          <a:ln w="9360">
            <a:solidFill>
              <a:srgbClr val="222268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6429240" y="3071880"/>
            <a:ext cx="2513160" cy="3600360"/>
          </a:xfrm>
          <a:prstGeom prst="rect">
            <a:avLst/>
          </a:prstGeom>
          <a:ln w="9360">
            <a:solidFill>
              <a:srgbClr val="99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714240" y="3071880"/>
            <a:ext cx="2818080" cy="360036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рий</dc:creator>
  <dc:description/>
  <dc:language>en-US</dc:language>
  <cp:lastModifiedBy>Горев Максим Игоревич</cp:lastModifiedBy>
  <dcterms:modified xsi:type="dcterms:W3CDTF">2025-04-21T07:29:02Z</dcterms:modified>
  <cp:revision>252</cp:revision>
  <dc:subject/>
  <dc:title>Пословицы и поговорки</dc:title>
</cp:coreProperties>
</file>